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7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8CE-580E-40BC-94EC-B45C2E8A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BAE-9C57-4C6D-A444-0F5751F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A5B-B2FC-4396-BF49-6D416D36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9D6-70DD-4CE9-B11E-C790AB3A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B4E-6650-4E44-BA09-4B3C91B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DA3-BBD3-4332-B7C6-2D858437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AE0-C993-498B-9D65-117A98E0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B67-2FC5-41FC-A462-ECE9129C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3C3-8798-478C-A5B9-A2F7CDFC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ABF-A343-467A-B35F-357BE74C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0AE-4298-447C-84EE-EE596E0F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881-8EBB-415D-A2B4-0865336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A3E6-8560-4837-AB4C-F783192D2654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Lucida Handwriting"/>
              </a:rPr>
              <a:t>GDR-Neutrino </a:t>
            </a:r>
            <a:r>
              <a:rPr b="0" lang="en-GB" sz="1400" spc="-1" strike="noStrike">
                <a:solidFill>
                  <a:srgbClr val="000000"/>
                </a:solidFill>
                <a:latin typeface="Lucida Handwriting"/>
              </a:rPr>
              <a:t>(10-11 mai 2006)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L. Mosca (CEA-Saclay)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The </a:t>
            </a:r>
            <a:r>
              <a:rPr b="1" lang="en-GB" sz="2400" spc="-1" strike="noStrike">
                <a:solidFill>
                  <a:srgbClr val="800000"/>
                </a:solidFill>
                <a:latin typeface="Lucida Handwriting"/>
              </a:rPr>
              <a:t>MEMPHYS </a:t>
            </a: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project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30000"/>
                </a:solidFill>
                <a:latin typeface="Lucida Handwriting"/>
              </a:rPr>
              <a:t>(Laboratory excavation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E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gaton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ass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PHYS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ic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a Large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ternational Underground Laboratory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the</a:t>
            </a: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Fréjus 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tunnel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proton decay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upernovae explosio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olar and atmosphéric neutrino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neutrino super-beam and beta-beam from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CER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1C5-5798-42D0-BC72-6A6AF5D66F8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1320" y="838080"/>
            <a:ext cx="769248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Two examples of scenario for Water Cerenkov detecto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)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3 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5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“UNO-like” scenario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60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&gt; In both scenarios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one additional shaft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would be necessary fo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Liquid Argon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detector of about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100 ktons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total mas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4C3-5CEE-41B4-BF1A-31C1985DC2E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779-4C8C-40C3-A991-E178BB1805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251-59B1-46AF-9BE7-3E03CEB630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46680" y="2994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832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8680" y="29955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868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1640" y="271764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" y="2717640"/>
            <a:ext cx="38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ABE-7446-4BFE-A88C-8B000C74BA8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33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DE1-9724-4E9B-BB6D-5B71974A3FB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-228600"/>
            <a:ext cx="8763120" cy="160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421"/>
                </a:solidFill>
                <a:latin typeface="Times New Roman"/>
              </a:rPr>
              <a:t>La “saga” du tunnel routier de sécurité du Fréjus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31d18"/>
                </a:solidFill>
                <a:latin typeface="Times New Roman"/>
              </a:rPr>
              <a:t>diamètre du tunnel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1" sz="2400" spc="-1" strike="noStrike">
                <a:solidFill>
                  <a:srgbClr val="ff5e26"/>
                </a:solidFill>
                <a:latin typeface="Times New Roman"/>
              </a:rPr>
              <a:t>date                     partie Française            partie Italienn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mars 2001                   0.00 (zero) m                      9.5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décembre 2001                                      4.8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juin 2004                          5.50 m   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2 juillet 2004 :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réation d’un groupe de travail à ce sujet par les deux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ministres de l’équipement/transport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Français (Gilles de Robien) e Italien (Pietro Lunardi)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ette Commission devait rendre son rapport pou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le 31 Octobre 2004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septembre 2004                5.50 m                          8.3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mars 2006                                               8.20m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                                     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(Comité de Sécurité Franco-Italien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21 avril 2006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8.00 mètres “utiles”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(Commission Inter-Gouvernementale Franco-Italienne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E62-0F05-484C-B9FD-B0C428336D0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8DA-BD76-4D5D-9D40-04F0223685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5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8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3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8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66320" y="1371600"/>
            <a:ext cx="2157840" cy="2825640"/>
            <a:chOff x="3766320" y="1371600"/>
            <a:chExt cx="2157840" cy="2825640"/>
          </a:xfrm>
        </p:grpSpPr>
        <p:sp>
          <p:nvSpPr>
            <p:cNvPr id="63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766320" y="1371600"/>
              <a:ext cx="2157840" cy="2792520"/>
              <a:chOff x="3766320" y="1371600"/>
              <a:chExt cx="2157840" cy="2792520"/>
            </a:xfrm>
          </p:grpSpPr>
          <p:sp>
            <p:nvSpPr>
              <p:cNvPr id="65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840" y="160992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66320" y="294660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89000" y="990720"/>
            <a:ext cx="4501080" cy="4732200"/>
            <a:chOff x="189000" y="990720"/>
            <a:chExt cx="4501080" cy="47322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189000" y="4581720"/>
              <a:ext cx="24969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1400" y="1825920"/>
              <a:ext cx="21312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720" y="320364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26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0240" y="5253120"/>
              <a:ext cx="26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1148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12F-55D0-4A6E-BB77-46D10F2895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609480"/>
          <a:ext cx="640080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4008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21A-81EA-4D89-9729-0ACCB386A04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 Convergence » measurements along the Fréjus road tunnel</a:t>
            </a:r>
            <a:r>
              <a:rPr b="0" lang="en-GB" sz="4400" spc="-1" strike="noStrike">
                <a:solidFill>
                  <a:srgbClr val="2c2bd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14400" y="1066680"/>
            <a:ext cx="10693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8EA-87E0-4D23-ACBF-F5835D4B6B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309680"/>
            <a:ext cx="8991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of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800 m.w.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to excavat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419720" cy="306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E05-55FE-48F2-9BE7-F339EB0164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5680" y="838080"/>
            <a:ext cx="69685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Main results of the Preliminary Stud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1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best sit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of the mountain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t a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depth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4800 mw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2) of the two considered shapes : “tunnel” and “shaft”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3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Cylindrical shafts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re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feasibl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up to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 diameter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e1121a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= 65 m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nd a full height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 h = 80 m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(≈ 250 000 m</a:t>
            </a:r>
            <a:r>
              <a:rPr b="0" lang="en-GB" sz="18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4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with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the volum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the shafts could be still increas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5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stimated cost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is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≈ 80 M€ X Nb of shaft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228-202D-448A-81C0-7BE9E3F5910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484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380880" y="2819520"/>
          <a:ext cx="510516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819520"/>
                    <a:ext cx="51051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95680" y="228600"/>
          <a:ext cx="4413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"/>
                    <a:ext cx="4413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5800" y="609480"/>
            <a:ext cx="3576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Exemple of “egg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shape” simulation, constrained by the rock parameter measurements made during the present tunnel and laboratory excavation.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The main feasibility criterium is that the significantly perturbated region around the cavity should not exceed a thickness of about 10 m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F6D-478B-4BF3-BB5B-88281C94D11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5803920" cy="771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77920" y="-3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1B6-937E-4DF5-AB39-FDEB03C9E44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Luigi Mosca</cp:lastModifiedBy>
  <dcterms:modified xsi:type="dcterms:W3CDTF">2006-05-10T21:19:06Z</dcterms:modified>
  <cp:revision>83</cp:revision>
  <dc:subject/>
  <dc:title>Présentation PowerPoint</dc:title>
</cp:coreProperties>
</file>